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5.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3D3340DB-ED33-48C9-8DC7-5F323AA430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1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1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5    lk     </a:t>
            </a:r>
            <a:r>
              <a:rPr b="1" lang="en-GB" sz="1400" spc="-1" strike="noStrike">
                <a:solidFill>
                  <a:srgbClr val="6666ff"/>
                </a:solidFill>
                <a:latin typeface="Bitstream Vera Sans"/>
              </a:rPr>
              <a:t>- </a:t>
            </a:r>
            <a:fld id="{06C3C223-531F-4F43-A724-620924010628}"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9880"/>
            <a:ext cx="7769160" cy="309600"/>
            <a:chOff x="914400" y="299880"/>
            <a:chExt cx="7769160" cy="309600"/>
          </a:xfrm>
        </p:grpSpPr>
        <p:sp>
          <p:nvSpPr>
            <p:cNvPr id="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299880"/>
            <a:ext cx="7769160" cy="309600"/>
            <a:chOff x="914400" y="299880"/>
            <a:chExt cx="7769160" cy="309600"/>
          </a:xfrm>
        </p:grpSpPr>
        <p:sp>
          <p:nvSpPr>
            <p:cNvPr id="10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5" name=""/>
          <p:cNvGrpSpPr/>
          <p:nvPr/>
        </p:nvGrpSpPr>
        <p:grpSpPr>
          <a:xfrm>
            <a:off x="914400" y="299880"/>
            <a:ext cx="7769160" cy="309600"/>
            <a:chOff x="914400" y="299880"/>
            <a:chExt cx="7769160" cy="309600"/>
          </a:xfrm>
        </p:grpSpPr>
        <p:sp>
          <p:nvSpPr>
            <p:cNvPr id="1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8"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1" name=""/>
          <p:cNvGrpSpPr/>
          <p:nvPr/>
        </p:nvGrpSpPr>
        <p:grpSpPr>
          <a:xfrm>
            <a:off x="914400" y="299880"/>
            <a:ext cx="7769160" cy="309600"/>
            <a:chOff x="914400" y="299880"/>
            <a:chExt cx="7769160" cy="309600"/>
          </a:xfrm>
        </p:grpSpPr>
        <p:sp>
          <p:nvSpPr>
            <p:cNvPr id="11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914400" y="299880"/>
            <a:ext cx="7769160" cy="309600"/>
            <a:chOff x="914400" y="299880"/>
            <a:chExt cx="7769160" cy="309600"/>
          </a:xfrm>
        </p:grpSpPr>
        <p:sp>
          <p:nvSpPr>
            <p:cNvPr id="1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9"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21"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2" name=""/>
          <p:cNvGrpSpPr/>
          <p:nvPr/>
        </p:nvGrpSpPr>
        <p:grpSpPr>
          <a:xfrm>
            <a:off x="914400" y="299880"/>
            <a:ext cx="7769160" cy="309600"/>
            <a:chOff x="914400" y="299880"/>
            <a:chExt cx="7769160" cy="309600"/>
          </a:xfrm>
        </p:grpSpPr>
        <p:sp>
          <p:nvSpPr>
            <p:cNvPr id="12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9880"/>
            <a:ext cx="7769160" cy="309600"/>
            <a:chOff x="914400" y="299880"/>
            <a:chExt cx="7769160" cy="309600"/>
          </a:xfrm>
        </p:grpSpPr>
        <p:sp>
          <p:nvSpPr>
            <p:cNvPr id="12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0" name="" descr=""/>
          <p:cNvPicPr/>
          <p:nvPr/>
        </p:nvPicPr>
        <p:blipFill>
          <a:blip r:embed="rId1"/>
          <a:stretch/>
        </p:blipFill>
        <p:spPr>
          <a:xfrm>
            <a:off x="990720" y="1905120"/>
            <a:ext cx="3124080" cy="2049480"/>
          </a:xfrm>
          <a:prstGeom prst="rect">
            <a:avLst/>
          </a:prstGeom>
          <a:ln w="0">
            <a:noFill/>
          </a:ln>
        </p:spPr>
      </p:pic>
      <p:pic>
        <p:nvPicPr>
          <p:cNvPr id="131" name="" descr=""/>
          <p:cNvPicPr/>
          <p:nvPr/>
        </p:nvPicPr>
        <p:blipFill>
          <a:blip r:embed="rId2"/>
          <a:stretch/>
        </p:blipFill>
        <p:spPr>
          <a:xfrm>
            <a:off x="3581280" y="3581280"/>
            <a:ext cx="4724640" cy="2616480"/>
          </a:xfrm>
          <a:prstGeom prst="rect">
            <a:avLst/>
          </a:prstGeom>
          <a:ln w="0">
            <a:noFill/>
          </a:ln>
        </p:spPr>
      </p:pic>
      <p:sp>
        <p:nvSpPr>
          <p:cNvPr id="132"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6" name=""/>
          <p:cNvGrpSpPr/>
          <p:nvPr/>
        </p:nvGrpSpPr>
        <p:grpSpPr>
          <a:xfrm>
            <a:off x="914400" y="299880"/>
            <a:ext cx="7769160" cy="309600"/>
            <a:chOff x="914400" y="299880"/>
            <a:chExt cx="7769160" cy="309600"/>
          </a:xfrm>
        </p:grpSpPr>
        <p:sp>
          <p:nvSpPr>
            <p:cNvPr id="1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9880"/>
            <a:ext cx="7769160" cy="309600"/>
            <a:chOff x="914400" y="299880"/>
            <a:chExt cx="7769160" cy="30960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914400" y="299880"/>
            <a:ext cx="7769160" cy="309600"/>
            <a:chOff x="914400" y="299880"/>
            <a:chExt cx="7769160" cy="309600"/>
          </a:xfrm>
        </p:grpSpPr>
        <p:sp>
          <p:nvSpPr>
            <p:cNvPr id="1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1447920" y="2057400"/>
            <a:ext cx="3695760" cy="4194000"/>
          </a:xfrm>
          <a:prstGeom prst="rect">
            <a:avLst/>
          </a:prstGeom>
          <a:ln w="0">
            <a:noFill/>
          </a:ln>
        </p:spPr>
      </p:pic>
      <p:sp>
        <p:nvSpPr>
          <p:cNvPr id="150" name=""/>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52"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9880"/>
            <a:ext cx="7769160" cy="309600"/>
            <a:chOff x="914400" y="299880"/>
            <a:chExt cx="7769160" cy="309600"/>
          </a:xfrm>
        </p:grpSpPr>
        <p:sp>
          <p:nvSpPr>
            <p:cNvPr id="15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6" name=""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1760"/>
            <a:ext cx="7848720" cy="8775720"/>
          </a:xfrm>
          <a:prstGeom prst="rect">
            <a:avLst/>
          </a:prstGeom>
          <a:noFill/>
          <a:ln w="0">
            <a:noFill/>
          </a:ln>
        </p:spPr>
        <p:txBody>
          <a:bodyPr lIns="92160" rIns="92160" tIns="46080" bIns="46080" anchor="t">
            <a:normAutofit/>
          </a:bodyPr>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2-1980:  mikroprotsessoritest  personaalarvutiteni</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6" name=""/>
          <p:cNvGrpSpPr/>
          <p:nvPr/>
        </p:nvGrpSpPr>
        <p:grpSpPr>
          <a:xfrm>
            <a:off x="914400" y="299880"/>
            <a:ext cx="7769160" cy="309600"/>
            <a:chOff x="914400" y="299880"/>
            <a:chExt cx="7769160" cy="309600"/>
          </a:xfrm>
        </p:grpSpPr>
        <p:sp>
          <p:nvSpPr>
            <p:cNvPr id="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endParaRPr b="0"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
          <p:cNvGrpSpPr/>
          <p:nvPr/>
        </p:nvGrpSpPr>
        <p:grpSpPr>
          <a:xfrm>
            <a:off x="914400" y="299880"/>
            <a:ext cx="7769160" cy="309600"/>
            <a:chOff x="914400" y="299880"/>
            <a:chExt cx="7769160" cy="309600"/>
          </a:xfrm>
        </p:grpSpPr>
        <p:sp>
          <p:nvSpPr>
            <p:cNvPr id="1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1009800" y="3657600"/>
            <a:ext cx="3792240" cy="2462040"/>
          </a:xfrm>
          <a:prstGeom prst="rect">
            <a:avLst/>
          </a:prstGeom>
          <a:ln w="0">
            <a:noFill/>
          </a:ln>
        </p:spPr>
      </p:pic>
      <p:pic>
        <p:nvPicPr>
          <p:cNvPr id="163" name=""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6" name=""/>
          <p:cNvGrpSpPr/>
          <p:nvPr/>
        </p:nvGrpSpPr>
        <p:grpSpPr>
          <a:xfrm>
            <a:off x="914400" y="299880"/>
            <a:ext cx="7769160" cy="309600"/>
            <a:chOff x="914400" y="299880"/>
            <a:chExt cx="7769160" cy="309600"/>
          </a:xfrm>
        </p:grpSpPr>
        <p:sp>
          <p:nvSpPr>
            <p:cNvPr id="1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70"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1" name=""/>
          <p:cNvGrpSpPr/>
          <p:nvPr/>
        </p:nvGrpSpPr>
        <p:grpSpPr>
          <a:xfrm>
            <a:off x="914400" y="299880"/>
            <a:ext cx="7769160" cy="309600"/>
            <a:chOff x="914400" y="299880"/>
            <a:chExt cx="7769160" cy="309600"/>
          </a:xfrm>
        </p:grpSpPr>
        <p:sp>
          <p:nvSpPr>
            <p:cNvPr id="1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75"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6" name=""/>
          <p:cNvGrpSpPr/>
          <p:nvPr/>
        </p:nvGrpSpPr>
        <p:grpSpPr>
          <a:xfrm>
            <a:off x="914400" y="299880"/>
            <a:ext cx="7769160" cy="309600"/>
            <a:chOff x="914400" y="299880"/>
            <a:chExt cx="7769160" cy="309600"/>
          </a:xfrm>
        </p:grpSpPr>
        <p:sp>
          <p:nvSpPr>
            <p:cNvPr id="1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80"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1" name=""/>
          <p:cNvGrpSpPr/>
          <p:nvPr/>
        </p:nvGrpSpPr>
        <p:grpSpPr>
          <a:xfrm>
            <a:off x="914400" y="299880"/>
            <a:ext cx="7769160" cy="309600"/>
            <a:chOff x="914400" y="299880"/>
            <a:chExt cx="7769160" cy="309600"/>
          </a:xfrm>
        </p:grpSpPr>
        <p:sp>
          <p:nvSpPr>
            <p:cNvPr id="18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85"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6" name=""/>
          <p:cNvGrpSpPr/>
          <p:nvPr/>
        </p:nvGrpSpPr>
        <p:grpSpPr>
          <a:xfrm>
            <a:off x="914400" y="299880"/>
            <a:ext cx="7769160" cy="309600"/>
            <a:chOff x="914400" y="299880"/>
            <a:chExt cx="7769160" cy="309600"/>
          </a:xfrm>
        </p:grpSpPr>
        <p:sp>
          <p:nvSpPr>
            <p:cNvPr id="18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publishes in his Altair newsletter an open letter from Bill Gates to the microcomputer hobbyists, complaining of software pirac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software routines for BASIC on the </a:t>
            </a:r>
            <a:r>
              <a:rPr b="1" lang="en-GB" sz="1800" spc="-1" strike="noStrike">
                <a:solidFill>
                  <a:srgbClr val="000000"/>
                </a:solidFill>
                <a:latin typeface="Bitstream Vera Sans"/>
                <a:ea typeface="Times New Roman"/>
              </a:rPr>
              <a:t>Altair to use diskettes</a:t>
            </a:r>
            <a:r>
              <a:rPr b="0" lang="en-GB" sz="1800" spc="-1" strike="noStrike">
                <a:solidFill>
                  <a:srgbClr val="000000"/>
                </a:solidFill>
                <a:latin typeface="Bitstream Vera Sans"/>
                <a:ea typeface="Times New Roman"/>
              </a:rPr>
              <a:t> for stora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incorporates </a:t>
            </a:r>
            <a:r>
              <a:rPr b="1" lang="en-GB" sz="1800" spc="-1" strike="noStrike">
                <a:solidFill>
                  <a:srgbClr val="000000"/>
                </a:solidFill>
                <a:latin typeface="Bitstream Vera Sans"/>
                <a:ea typeface="Times New Roman"/>
              </a:rPr>
              <a:t>Byte, Inc</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9880"/>
            <a:ext cx="7769160" cy="309600"/>
            <a:chOff x="914400" y="299880"/>
            <a:chExt cx="7769160" cy="30960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880"/>
            <a:ext cx="7769160" cy="309600"/>
            <a:chOff x="914400" y="299880"/>
            <a:chExt cx="7769160" cy="309600"/>
          </a:xfrm>
        </p:grpSpPr>
        <p:sp>
          <p:nvSpPr>
            <p:cNvPr id="1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9880"/>
            <a:ext cx="7769160" cy="309600"/>
            <a:chOff x="914400" y="299880"/>
            <a:chExt cx="7769160" cy="309600"/>
          </a:xfrm>
        </p:grpSpPr>
        <p:sp>
          <p:nvSpPr>
            <p:cNvPr id="20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4" name="" descr=""/>
          <p:cNvPicPr/>
          <p:nvPr/>
        </p:nvPicPr>
        <p:blipFill>
          <a:blip r:embed="rId1"/>
          <a:stretch/>
        </p:blipFill>
        <p:spPr>
          <a:xfrm>
            <a:off x="685800" y="2917800"/>
            <a:ext cx="4800600" cy="3200400"/>
          </a:xfrm>
          <a:prstGeom prst="rect">
            <a:avLst/>
          </a:prstGeom>
          <a:ln w="0">
            <a:noFill/>
          </a:ln>
        </p:spPr>
      </p:pic>
      <p:pic>
        <p:nvPicPr>
          <p:cNvPr id="205"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1760"/>
            <a:ext cx="7848720" cy="8242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receives his order for 50 Apple compu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veral computer hobbyist clubs hold their first convention at the Personal Computing Festival, in Atlantic City, New Jerse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omputer Shack</a:t>
            </a:r>
            <a:r>
              <a:rPr b="0" lang="en-GB" sz="1800" spc="-1" strike="noStrike">
                <a:solidFill>
                  <a:srgbClr val="000000"/>
                </a:solidFill>
                <a:latin typeface="Bitstream Vera Sans"/>
                <a:ea typeface="Times New Roman"/>
              </a:rPr>
              <a:t> is incorporated. The name is later changed to ComputerLand, due to objections from Radio Shack. (ComputerLand is incorporated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8" name=""/>
          <p:cNvGrpSpPr/>
          <p:nvPr/>
        </p:nvGrpSpPr>
        <p:grpSpPr>
          <a:xfrm>
            <a:off x="914400" y="299880"/>
            <a:ext cx="7769160" cy="309600"/>
            <a:chOff x="914400" y="299880"/>
            <a:chExt cx="7769160" cy="309600"/>
          </a:xfrm>
        </p:grpSpPr>
        <p:sp>
          <p:nvSpPr>
            <p:cNvPr id="20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6560" indent="-279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9880"/>
            <a:ext cx="7769160" cy="309600"/>
            <a:chOff x="914400" y="299880"/>
            <a:chExt cx="7769160" cy="309600"/>
          </a:xfrm>
        </p:grpSpPr>
        <p:sp>
          <p:nvSpPr>
            <p:cNvPr id="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1760"/>
            <a:ext cx="7848720" cy="7908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radenam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is register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uterLand opens a pilot store in Hayward, California, as a retail outlet and a training facility for franchise own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3" name=""/>
          <p:cNvGrpSpPr/>
          <p:nvPr/>
        </p:nvGrpSpPr>
        <p:grpSpPr>
          <a:xfrm>
            <a:off x="914400" y="299880"/>
            <a:ext cx="7769160" cy="309600"/>
            <a:chOff x="914400" y="299880"/>
            <a:chExt cx="7769160" cy="309600"/>
          </a:xfrm>
        </p:grpSpPr>
        <p:sp>
          <p:nvSpPr>
            <p:cNvPr id="2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7" name="PlaceHolder 2"/>
          <p:cNvSpPr>
            <a:spLocks noGrp="1"/>
          </p:cNvSpPr>
          <p:nvPr>
            <p:ph/>
          </p:nvPr>
        </p:nvSpPr>
        <p:spPr>
          <a:xfrm>
            <a:off x="838080" y="762120"/>
            <a:ext cx="7848720" cy="83167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on French and Steve Leininger are given official approval to develop and sell a </a:t>
            </a:r>
            <a:r>
              <a:rPr b="1" lang="en-GB" sz="1800" spc="-1" strike="noStrike">
                <a:solidFill>
                  <a:srgbClr val="000000"/>
                </a:solidFill>
                <a:latin typeface="Bitstream Vera Sans"/>
                <a:ea typeface="Times New Roman"/>
              </a:rPr>
              <a:t>microcomputer for Radio Sha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Randy Wigginton demonstrate the </a:t>
            </a:r>
            <a:r>
              <a:rPr b="1" lang="en-GB" sz="1800" spc="-1" strike="noStrike">
                <a:solidFill>
                  <a:srgbClr val="000000"/>
                </a:solidFill>
                <a:latin typeface="Bitstream Vera Sans"/>
                <a:ea typeface="Times New Roman"/>
              </a:rPr>
              <a:t>first prototype Apple II</a:t>
            </a:r>
            <a:r>
              <a:rPr b="0" lang="en-GB" sz="1800" spc="-1" strike="noStrike">
                <a:solidFill>
                  <a:srgbClr val="000000"/>
                </a:solidFill>
                <a:latin typeface="Bitstream Vera Sans"/>
                <a:ea typeface="Times New Roman"/>
              </a:rPr>
              <a:t> at a Homebrew Computer Club meet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hipped over </a:t>
            </a:r>
            <a:r>
              <a:rPr b="1" lang="en-GB" sz="1800" spc="-1" strike="noStrike">
                <a:solidFill>
                  <a:srgbClr val="000000"/>
                </a:solidFill>
                <a:latin typeface="Bitstream Vera Sans"/>
                <a:ea typeface="Times New Roman"/>
              </a:rPr>
              <a:t>10,000 Altair 8800 k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wlett-Packard begins Project Capricorn, to build </a:t>
            </a:r>
            <a:r>
              <a:rPr b="1" lang="en-GB" sz="1800" spc="-1" strike="noStrike">
                <a:solidFill>
                  <a:srgbClr val="000000"/>
                </a:solidFill>
                <a:latin typeface="Bitstream Vera Sans"/>
                <a:ea typeface="Times New Roman"/>
              </a:rPr>
              <a:t>a computer-like calcula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the Display Word Processing Task Force recommends that Xerox produce an office information system like the Alto. Code name for the project is Jan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vanced Micro Devices and Intel </a:t>
            </a:r>
            <a:r>
              <a:rPr b="1" lang="en-GB" sz="1800" spc="-1" strike="noStrike">
                <a:solidFill>
                  <a:srgbClr val="000000"/>
                </a:solidFill>
                <a:latin typeface="Bitstream Vera Sans"/>
                <a:ea typeface="Times New Roman"/>
              </a:rPr>
              <a:t>sign a patent cross-license agreement</a:t>
            </a:r>
            <a:r>
              <a:rPr b="0" lang="en-GB" sz="1800" spc="-1" strike="noStrike">
                <a:solidFill>
                  <a:srgbClr val="000000"/>
                </a:solidFill>
                <a:latin typeface="Bitstream Vera Sans"/>
                <a:ea typeface="Times New Roman"/>
              </a:rPr>
              <a:t>, giving Advanced Micro Devices the right to copy Intel's processor microcode and instruction code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8" name=""/>
          <p:cNvGrpSpPr/>
          <p:nvPr/>
        </p:nvGrpSpPr>
        <p:grpSpPr>
          <a:xfrm>
            <a:off x="914400" y="299880"/>
            <a:ext cx="7769160" cy="309600"/>
            <a:chOff x="914400" y="299880"/>
            <a:chExt cx="7769160" cy="309600"/>
          </a:xfrm>
        </p:grpSpPr>
        <p:sp>
          <p:nvSpPr>
            <p:cNvPr id="2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introduces the Channel F, the </a:t>
            </a:r>
            <a:r>
              <a:rPr b="1" lang="en-GB" sz="1800" spc="-1" strike="noStrike">
                <a:solidFill>
                  <a:srgbClr val="000000"/>
                </a:solidFill>
                <a:latin typeface="Bitstream Vera Sans"/>
                <a:ea typeface="Times New Roman"/>
              </a:rPr>
              <a:t>first programmable (via plug-in cartridges) home video game system</a:t>
            </a:r>
            <a:r>
              <a:rPr b="0" lang="en-GB" sz="1800" spc="-1" strike="noStrike">
                <a:solidFill>
                  <a:srgbClr val="000000"/>
                </a:solidFill>
                <a:latin typeface="Bitstream Vera Sans"/>
                <a:ea typeface="Times New Roman"/>
              </a:rPr>
              <a:t>. Price: US$17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lto III, to be marketed as an advanced word processing system. The proposal is shelve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cessor Technology releases VDM, a video display module. It works on the Altair, IMSAI, Sol, Polymorphic computers, and any other with an S-100 b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ynalogic of Canada creates its own advanced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tucky Fried Computers is founded.</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299880"/>
            <a:ext cx="7769160" cy="309600"/>
            <a:chOff x="914400" y="299880"/>
            <a:chExt cx="7769160" cy="309600"/>
          </a:xfrm>
        </p:grpSpPr>
        <p:sp>
          <p:nvSpPr>
            <p:cNvPr id="2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Martin sells Bill Millard on the idea of a chain of computer stores. Bill promises John shares in the company in exchange for the idea. The chain later becomes ComputerLan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299880"/>
            <a:ext cx="7769160" cy="309600"/>
            <a:chOff x="914400" y="299880"/>
            <a:chExt cx="7769160" cy="30960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299880"/>
            <a:ext cx="7769160" cy="309600"/>
            <a:chOff x="914400" y="299880"/>
            <a:chExt cx="7769160" cy="30960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 name=""/>
          <p:cNvGrpSpPr/>
          <p:nvPr/>
        </p:nvGrpSpPr>
        <p:grpSpPr>
          <a:xfrm>
            <a:off x="914400" y="299880"/>
            <a:ext cx="7767720" cy="309600"/>
            <a:chOff x="914400" y="299880"/>
            <a:chExt cx="7767720" cy="309600"/>
          </a:xfrm>
        </p:grpSpPr>
        <p:sp>
          <p:nvSpPr>
            <p:cNvPr id="23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1"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299880"/>
            <a:ext cx="7767720" cy="309600"/>
            <a:chOff x="914400" y="299880"/>
            <a:chExt cx="7767720" cy="309600"/>
          </a:xfrm>
        </p:grpSpPr>
        <p:sp>
          <p:nvSpPr>
            <p:cNvPr id="24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7"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0" name=""/>
          <p:cNvGrpSpPr/>
          <p:nvPr/>
        </p:nvGrpSpPr>
        <p:grpSpPr>
          <a:xfrm>
            <a:off x="914400" y="299880"/>
            <a:ext cx="7767720" cy="309600"/>
            <a:chOff x="914400" y="299880"/>
            <a:chExt cx="7767720" cy="309600"/>
          </a:xfrm>
        </p:grpSpPr>
        <p:sp>
          <p:nvSpPr>
            <p:cNvPr id="251"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3"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5"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9880"/>
            <a:ext cx="7767720" cy="309600"/>
            <a:chOff x="914400" y="299880"/>
            <a:chExt cx="7767720" cy="309600"/>
          </a:xfrm>
        </p:grpSpPr>
        <p:sp>
          <p:nvSpPr>
            <p:cNvPr id="25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0"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PET 2001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delivers its first Apple II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ugus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9880"/>
            <a:ext cx="7767720" cy="309600"/>
            <a:chOff x="914400" y="299880"/>
            <a:chExt cx="7767720" cy="309600"/>
          </a:xfrm>
        </p:grpSpPr>
        <p:sp>
          <p:nvSpPr>
            <p:cNvPr id="2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299880"/>
            <a:ext cx="7769160" cy="309600"/>
            <a:chOff x="914400" y="299880"/>
            <a:chExt cx="7769160" cy="309600"/>
          </a:xfrm>
        </p:grpSpPr>
        <p:sp>
          <p:nvSpPr>
            <p:cNvPr id="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9" name="" descr=""/>
          <p:cNvPicPr/>
          <p:nvPr/>
        </p:nvPicPr>
        <p:blipFill>
          <a:blip r:embed="rId1"/>
          <a:stretch/>
        </p:blipFill>
        <p:spPr>
          <a:xfrm>
            <a:off x="990720" y="1143000"/>
            <a:ext cx="3073320" cy="3200400"/>
          </a:xfrm>
          <a:prstGeom prst="rect">
            <a:avLst/>
          </a:prstGeom>
          <a:ln w="0">
            <a:noFill/>
          </a:ln>
        </p:spPr>
      </p:pic>
      <p:pic>
        <p:nvPicPr>
          <p:cNvPr id="70" name="" descr=""/>
          <p:cNvPicPr/>
          <p:nvPr/>
        </p:nvPicPr>
        <p:blipFill>
          <a:blip r:embed="rId2"/>
          <a:stretch/>
        </p:blipFill>
        <p:spPr>
          <a:xfrm>
            <a:off x="5592600" y="4237200"/>
            <a:ext cx="3030840" cy="2003400"/>
          </a:xfrm>
          <a:prstGeom prst="rect">
            <a:avLst/>
          </a:prstGeom>
          <a:ln w="0">
            <a:noFill/>
          </a:ln>
        </p:spPr>
      </p:pic>
      <p:sp>
        <p:nvSpPr>
          <p:cNvPr id="71"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72"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an executive board meeting at Apple Computer, president Mike Markkula lists the floppy disk drive as the company's top goa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teve Wozniak writes the floppy disk controller software for use with the Apple I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9880"/>
            <a:ext cx="7767720" cy="309600"/>
            <a:chOff x="914400" y="299880"/>
            <a:chExt cx="7767720" cy="309600"/>
          </a:xfrm>
        </p:grpSpPr>
        <p:sp>
          <p:nvSpPr>
            <p:cNvPr id="2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069560"/>
            <a:ext cx="7848720" cy="60166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an Bricklin conceives the idea for the VisiCalc spreadsheet program.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MSAI licenses use of CP/M for its microcomputers for US$25,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introduces the Atari Video Computer System (VCS), later renamed the Atari 2600.</a:t>
            </a: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9880"/>
            <a:ext cx="7767720" cy="309600"/>
            <a:chOff x="914400" y="299880"/>
            <a:chExt cx="7767720" cy="309600"/>
          </a:xfrm>
        </p:grpSpPr>
        <p:sp>
          <p:nvSpPr>
            <p:cNvPr id="27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761760"/>
            <a:ext cx="7848720" cy="60166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VAX 11/780 from Digital Equipment Corp</a:t>
            </a:r>
            <a:r>
              <a:rPr b="0" lang="en-GB" sz="1800" spc="-1" strike="noStrike">
                <a:solidFill>
                  <a:srgbClr val="000000"/>
                </a:solidFill>
                <a:latin typeface="Bitstream Vera Sans"/>
                <a:ea typeface="Times New Roman"/>
              </a:rPr>
              <a:t>. featured the ability to address up to 4.3 gigabytes of virtual memory, providing hundreds of times the capacity of most minicomputers.</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5 1/4-inch floppy disk</a:t>
            </a:r>
            <a:r>
              <a:rPr b="0" lang="en-GB" sz="1800" spc="-1" strike="noStrike">
                <a:solidFill>
                  <a:srgbClr val="000000"/>
                </a:solidFill>
                <a:latin typeface="Bitstream Vera Sans"/>
                <a:ea typeface="Times New Roman"/>
              </a:rPr>
              <a:t> became the standard medium for personal computer software after Apple Computer and Tandy Radio Shack introduced disk drives for this format.</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299880"/>
            <a:ext cx="7767720" cy="309600"/>
            <a:chOff x="914400" y="299880"/>
            <a:chExt cx="7767720" cy="309600"/>
          </a:xfrm>
        </p:grpSpPr>
        <p:sp>
          <p:nvSpPr>
            <p:cNvPr id="27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9" name="" descr=""/>
          <p:cNvPicPr/>
          <p:nvPr/>
        </p:nvPicPr>
        <p:blipFill>
          <a:blip r:embed="rId1"/>
          <a:stretch/>
        </p:blipFill>
        <p:spPr>
          <a:xfrm>
            <a:off x="2743200" y="1981080"/>
            <a:ext cx="3505320" cy="232596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A</a:t>
            </a:r>
            <a:r>
              <a:rPr b="1" lang="en-GB" sz="1800" spc="-1" strike="noStrike">
                <a:solidFill>
                  <a:srgbClr val="000000"/>
                </a:solidFill>
                <a:latin typeface="Bitstream Vera Sans"/>
                <a:ea typeface="Times New Roman"/>
              </a:rPr>
              <a:t>pple Computer demonstrates its first working prototype Apple II disk</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drive</a:t>
            </a:r>
            <a:r>
              <a:rPr b="0" lang="en-GB" sz="1800" spc="-1" strike="noStrike">
                <a:solidFill>
                  <a:srgbClr val="000000"/>
                </a:solidFill>
                <a:latin typeface="Bitstream Vera Sans"/>
                <a:ea typeface="Times New Roman"/>
              </a:rPr>
              <a:t> at the Consumer Electronics Show, in Las Vega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begins production of the 8086 microprocessor. It is created by two engineers in just three weeks. Work on the processor began when it was realized that the i432 project was in trou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2" name=""/>
          <p:cNvGrpSpPr/>
          <p:nvPr/>
        </p:nvGrpSpPr>
        <p:grpSpPr>
          <a:xfrm>
            <a:off x="914400" y="299880"/>
            <a:ext cx="7767720" cy="309600"/>
            <a:chOff x="914400" y="299880"/>
            <a:chExt cx="7767720" cy="309600"/>
          </a:xfrm>
        </p:grpSpPr>
        <p:sp>
          <p:nvSpPr>
            <p:cNvPr id="28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6"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introduces WordMas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opens a retail store in a shopping mall, for selling small computer systems priced below US$10,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arly) Dan Bricklin completes a BASIC program demonstrating his proposed spreadsheet applicat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ummer) Apple Computer hires Chuck Peddle, designer of the 6502 microprocessor and Commodore's PE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Personal Software company software publisher Dan Fylstra loans an Apple II to Dan Bricklin to create his spreadsheet program.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Microsoft begins developing BASIC for the Intel 8086 processor.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7" name=""/>
          <p:cNvGrpSpPr/>
          <p:nvPr/>
        </p:nvGrpSpPr>
        <p:grpSpPr>
          <a:xfrm>
            <a:off x="914400" y="299880"/>
            <a:ext cx="7767720" cy="309600"/>
            <a:chOff x="914400" y="299880"/>
            <a:chExt cx="7767720" cy="309600"/>
          </a:xfrm>
        </p:grpSpPr>
        <p:sp>
          <p:nvSpPr>
            <p:cNvPr id="28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923760"/>
            <a:ext cx="7848720" cy="82216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releases the Space Invaders game to arcade cen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ally begins shipping its Bally Professional Arcade gam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inematronics releases Space Wars to arcade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BM scientist John Cocke produces the 801 computer, a RISC prototype named after the laboratory building it was built i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ndy opens its first dedicated computer cen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research and development on what would become the Lisa.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donates 50 Alto computers to Stanford, Carnegie-Mellon, and MI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rmann Hauser founds Acorn Computers, in England.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2" name=""/>
          <p:cNvGrpSpPr/>
          <p:nvPr/>
        </p:nvGrpSpPr>
        <p:grpSpPr>
          <a:xfrm>
            <a:off x="914400" y="299880"/>
            <a:ext cx="7767720" cy="309600"/>
            <a:chOff x="914400" y="299880"/>
            <a:chExt cx="7767720" cy="309600"/>
          </a:xfrm>
        </p:grpSpPr>
        <p:sp>
          <p:nvSpPr>
            <p:cNvPr id="29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7" name=""/>
          <p:cNvGrpSpPr/>
          <p:nvPr/>
        </p:nvGrpSpPr>
        <p:grpSpPr>
          <a:xfrm>
            <a:off x="914400" y="299880"/>
            <a:ext cx="7767720" cy="309600"/>
            <a:chOff x="914400" y="299880"/>
            <a:chExt cx="7767720" cy="309600"/>
          </a:xfrm>
        </p:grpSpPr>
        <p:sp>
          <p:nvSpPr>
            <p:cNvPr id="29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0"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2" name="PlaceHolder 2"/>
          <p:cNvSpPr>
            <a:spLocks noGrp="1"/>
          </p:cNvSpPr>
          <p:nvPr>
            <p:ph/>
          </p:nvPr>
        </p:nvSpPr>
        <p:spPr>
          <a:xfrm>
            <a:off x="914400" y="914400"/>
            <a:ext cx="7848720" cy="98172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Motorola 68000 microprocessor exhibited a processing speed far greater than its contemporarie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development since 1967, the Stanford Cart successfully crossed a chair-filled room without human intervention in 1979.</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alifornia Institute of Technology professor Carver Mead and Xerox Corp. computer scientist Lynn Conway wrote a manual of chip design, "Introduction to VLSI System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president replies to John Ellenby's proposal to market the Alto, turning down his proposa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moves its offices from Albuquerque, New Mexico to Bellevue, Washingt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first shows the Space Invaders game, in Japa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oftware Arts demonstrates VisiCalc at the 4th West Coast Computer Faire. Dan Bricklin and Bob Frankston wrote it during 1978-79, under the company name Software Arts, under contract to Personal Software.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9880"/>
            <a:ext cx="7767720" cy="309600"/>
            <a:chOff x="914400" y="299880"/>
            <a:chExt cx="7767720" cy="309600"/>
          </a:xfrm>
        </p:grpSpPr>
        <p:sp>
          <p:nvSpPr>
            <p:cNvPr id="30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7"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8" name=""/>
          <p:cNvGrpSpPr/>
          <p:nvPr/>
        </p:nvGrpSpPr>
        <p:grpSpPr>
          <a:xfrm>
            <a:off x="914400" y="299880"/>
            <a:ext cx="7767720" cy="309600"/>
            <a:chOff x="914400" y="299880"/>
            <a:chExt cx="7767720" cy="309600"/>
          </a:xfrm>
        </p:grpSpPr>
        <p:sp>
          <p:nvSpPr>
            <p:cNvPr id="30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87320"/>
            <a:ext cx="7848720" cy="93996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puServe begins a service to computer hobbyists called MicroNET, offering bulletin boards, databases, and game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live Sinclair creates Sinclair Research.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its Assembler language for 8080/Z80 microprocesso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9880"/>
            <a:ext cx="7767720" cy="309600"/>
            <a:chOff x="914400" y="299880"/>
            <a:chExt cx="7767720" cy="309600"/>
          </a:xfrm>
        </p:grpSpPr>
        <p:sp>
          <p:nvSpPr>
            <p:cNvPr id="31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5" name=""/>
          <p:cNvGrpSpPr/>
          <p:nvPr/>
        </p:nvGrpSpPr>
        <p:grpSpPr>
          <a:xfrm>
            <a:off x="914400" y="299880"/>
            <a:ext cx="7769160" cy="309600"/>
            <a:chOff x="914400" y="299880"/>
            <a:chExt cx="7769160" cy="309600"/>
          </a:xfrm>
        </p:grpSpPr>
        <p:sp>
          <p:nvSpPr>
            <p:cNvPr id="7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806040"/>
            <a:ext cx="7848720" cy="98744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begins shipping the Atari 400 and Atari 800 personal computers. The 400 comes with 8KB, selling for US$550. The 800 sells for US$1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adio Shack begins shipping the TRS-80 Model II to us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Office Products Division president, Don Massaro, decides to champion the Star office system (based on the Alto).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begins shipping the TI 99/4.</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 group of Apple Computer engineers and executives is given a demo of Xerox Palo Alto Research Center's Alto computer system, in exchange for Xerox buying 100,000 Apple Computer shares for 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develops the Asteroids computer gam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completes work on BASIC for the Intel 8086 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first Comdex show is held, in Las Vegas. Approximately 150 companies show products to some 4,000 visitors.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9880"/>
            <a:ext cx="7767720" cy="309600"/>
            <a:chOff x="914400" y="299880"/>
            <a:chExt cx="7767720" cy="309600"/>
          </a:xfrm>
        </p:grpSpPr>
        <p:sp>
          <p:nvSpPr>
            <p:cNvPr id="31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685800"/>
            <a:ext cx="7848720" cy="960120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developing an 8086 version of FORTRA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s Trip Hawkins negotiates a deal with Dan Fylstra of Personal Software to buy his company and VisiCalc for US$1 million in Apple stock. Apple's president refuses to approve the deal.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Ross Perot</a:t>
            </a:r>
            <a:r>
              <a:rPr b="0" lang="en-GB" sz="1800" spc="-1" strike="noStrike">
                <a:solidFill>
                  <a:srgbClr val="000000"/>
                </a:solidFill>
                <a:latin typeface="Bitstream Vera Sans"/>
                <a:ea typeface="Times New Roman"/>
              </a:rPr>
              <a: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lan Shugart founds Seagate Technologies (hard disk maker), in Scotts Valley,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Sara", the code name for what will be the Apple III.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word processing program AppleWriter 1.0.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chlumberger Ltd. sells Heath Company to Zenith Radio Corp. for US$64.5 millio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utomated Simulations releases </a:t>
            </a:r>
            <a:r>
              <a:rPr b="1" lang="en-GB" sz="1800" spc="-1" strike="noStrike">
                <a:solidFill>
                  <a:srgbClr val="000000"/>
                </a:solidFill>
                <a:latin typeface="Bitstream Vera Sans"/>
                <a:ea typeface="Times New Roman"/>
              </a:rPr>
              <a:t>Temple of Apshai</a:t>
            </a:r>
            <a:r>
              <a:rPr b="0" lang="en-GB" sz="1800" spc="-1" strike="noStrike">
                <a:solidFill>
                  <a:srgbClr val="000000"/>
                </a:solidFill>
                <a:latin typeface="Bitstream Vera Sans"/>
                <a:ea typeface="Times New Roman"/>
              </a:rPr>
              <a:t> for microcomputers.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Modula-1</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EC releases its NEC PC 8001 microcomputer in Japan, the first for that country.</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
          <p:cNvGrpSpPr/>
          <p:nvPr/>
        </p:nvGrpSpPr>
        <p:grpSpPr>
          <a:xfrm>
            <a:off x="914400" y="299880"/>
            <a:ext cx="7767720" cy="309600"/>
            <a:chOff x="914400" y="299880"/>
            <a:chExt cx="7767720" cy="309600"/>
          </a:xfrm>
        </p:grpSpPr>
        <p:sp>
          <p:nvSpPr>
            <p:cNvPr id="32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not to market the Alto.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8" name=""/>
          <p:cNvGrpSpPr/>
          <p:nvPr/>
        </p:nvGrpSpPr>
        <p:grpSpPr>
          <a:xfrm>
            <a:off x="914400" y="299880"/>
            <a:ext cx="7767720" cy="309600"/>
            <a:chOff x="914400" y="299880"/>
            <a:chExt cx="7767720" cy="309600"/>
          </a:xfrm>
        </p:grpSpPr>
        <p:sp>
          <p:nvSpPr>
            <p:cNvPr id="32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32"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3" name=""/>
          <p:cNvGrpSpPr/>
          <p:nvPr/>
        </p:nvGrpSpPr>
        <p:grpSpPr>
          <a:xfrm>
            <a:off x="914400" y="299880"/>
            <a:ext cx="7767720" cy="309600"/>
            <a:chOff x="914400" y="299880"/>
            <a:chExt cx="7767720" cy="309600"/>
          </a:xfrm>
        </p:grpSpPr>
        <p:sp>
          <p:nvSpPr>
            <p:cNvPr id="33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79"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0" name=""/>
          <p:cNvGrpSpPr/>
          <p:nvPr/>
        </p:nvGrpSpPr>
        <p:grpSpPr>
          <a:xfrm>
            <a:off x="914400" y="299880"/>
            <a:ext cx="7769160" cy="309600"/>
            <a:chOff x="914400" y="299880"/>
            <a:chExt cx="7769160" cy="309600"/>
          </a:xfrm>
        </p:grpSpPr>
        <p:sp>
          <p:nvSpPr>
            <p:cNvPr id="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4"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5" name=""/>
          <p:cNvGrpSpPr/>
          <p:nvPr/>
        </p:nvGrpSpPr>
        <p:grpSpPr>
          <a:xfrm>
            <a:off x="914400" y="299880"/>
            <a:ext cx="7769160" cy="309600"/>
            <a:chOff x="914400" y="299880"/>
            <a:chExt cx="7769160" cy="309600"/>
          </a:xfrm>
        </p:grpSpPr>
        <p:sp>
          <p:nvSpPr>
            <p:cNvPr id="8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0" name=""/>
          <p:cNvGrpSpPr/>
          <p:nvPr/>
        </p:nvGrpSpPr>
        <p:grpSpPr>
          <a:xfrm>
            <a:off x="914400" y="299880"/>
            <a:ext cx="7769160" cy="309600"/>
            <a:chOff x="914400" y="299880"/>
            <a:chExt cx="7769160" cy="309600"/>
          </a:xfrm>
        </p:grpSpPr>
        <p:sp>
          <p:nvSpPr>
            <p:cNvPr id="9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5" name=""/>
          <p:cNvGrpSpPr/>
          <p:nvPr/>
        </p:nvGrpSpPr>
        <p:grpSpPr>
          <a:xfrm>
            <a:off x="914400" y="299880"/>
            <a:ext cx="7769160" cy="309600"/>
            <a:chOff x="914400" y="299880"/>
            <a:chExt cx="7769160" cy="309600"/>
          </a:xfrm>
        </p:grpSpPr>
        <p:sp>
          <p:nvSpPr>
            <p:cNvPr id="9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